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C8C-BEDA-429F-9F53-E67207D6D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0E41-5A74-4F5D-B2C6-6A04D552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7949-E0F4-4BD8-8A24-DCA78999F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2F60-AEDD-44D1-9D1B-77BA3933C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F42A-C90C-4A20-B709-3052D33EB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FE3-E02A-4B1A-AD1D-699E2BF3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F748-9F4B-47CE-AC70-87278581D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DE52-25DE-41E5-82A5-0F4BB2872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D4FC-9434-42E6-837F-E7855FE2E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4C3C-42E7-43A9-8DA9-38E551ED8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EEF-DD6E-419A-B963-3BA1524B5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1D14-F086-475B-BE44-B6C86887A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A73A-E1CB-41BC-83CB-69C47FD19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CD64-1799-44BB-A9D0-7AA7DB7CF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67B-D3B4-4EB3-BFEE-0A272A52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5A1-B936-40DA-BD31-40D2B132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5C0-F97F-411A-BA07-657D60DC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3D2-9C3B-487D-9A5E-A06C3DCF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EA9-8805-436F-8B20-72AEB719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9F6-459D-466B-980E-5B91FFCD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C27-1211-4504-A8C0-2521018B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AC7-D49A-446E-93BB-8E1B8D95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FCC-3073-4697-860E-02B4B0A9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B11-477E-49AC-9749-B28C92AC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BF5-8A41-4F8E-A1D0-7FA9484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B52-7B30-488B-A0FA-3715498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1A69-B976-450B-ABB7-B44DF0306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_x0013_earth-x-section.gif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776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143360" y="380880"/>
            <a:ext cx="644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ayers of the Ear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744720" y="6248520"/>
            <a:ext cx="435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© Copyright 2006.  M. J. Krech. All rights reserved.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1120" y="19051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xt time you heat anything like soup or water in a pan you can watch the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convection curr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ve in the liquid. When the convection currents flow in the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asthenosp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y also move the crust. The crust gets a free ride with these currents, like the </a:t>
            </a:r>
            <a:r>
              <a:rPr b="1" lang="en-US" sz="2000" spc="-1" strike="noStrike">
                <a:solidFill>
                  <a:srgbClr val="803629"/>
                </a:solidFill>
                <a:latin typeface="Times New Roman"/>
              </a:rPr>
              <a:t>c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illust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e41620"/>
                </a:solidFill>
                <a:latin typeface="Times New Roman"/>
              </a:rPr>
              <a:t>Safety Cau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n’t get your face too close to the boiling water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_x000f_convection2.gif                                                0000006A_x0005_KRECH                          00000000:"/>
          <p:cNvPicPr/>
          <p:nvPr/>
        </p:nvPicPr>
        <p:blipFill>
          <a:blip r:embed="rId1"/>
          <a:srcRect l="59544" t="0" r="0" b="0"/>
          <a:stretch/>
        </p:blipFill>
        <p:spPr>
          <a:xfrm>
            <a:off x="762120" y="1676520"/>
            <a:ext cx="3257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uter C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4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of the Earth is like a ball of very hot metals. The </a:t>
            </a:r>
            <a:r>
              <a:rPr b="1" lang="en-US" sz="3200" spc="-1" strike="noStrike">
                <a:solidFill>
                  <a:srgbClr val="e41620"/>
                </a:solidFill>
                <a:latin typeface="Times New Roman"/>
              </a:rPr>
              <a:t>outer 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so hot that the metals in it are all in the liquid state. The outer core is composed of the melted metals of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nickel and i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_x000c_Picture8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533520" y="1600200"/>
            <a:ext cx="48006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ner C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10080" y="18284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inner 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Earth has temperatures and pressures so great that the metals are squeezed together and are not able to move about like a liquid, but are forced to vibrate in place like a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so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_x000c_Picture9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457200" y="1676520"/>
            <a:ext cx="45720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562720" cy="838440"/>
          </a:xfrm>
          <a:prstGeom prst="rect">
            <a:avLst/>
          </a:prstGeom>
          <a:solidFill>
            <a:srgbClr val="ff9900">
              <a:alpha val="5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_x000e_earthwedge.jpg                                                 00000002_x0005_KRECH                          00000000:"/>
          <p:cNvPicPr/>
          <p:nvPr/>
        </p:nvPicPr>
        <p:blipFill>
          <a:blip r:embed="rId1"/>
          <a:stretch/>
        </p:blipFill>
        <p:spPr>
          <a:xfrm>
            <a:off x="5029200" y="1752480"/>
            <a:ext cx="3597120" cy="4092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754200" y="2971800"/>
            <a:ext cx="3970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57"/>
                </a:solidFill>
                <a:latin typeface="Times New Roman"/>
              </a:rPr>
              <a:t>BON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ir or trio  and answer this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Have we ever seen part of the Mantle? Expl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354200" y="6248520"/>
            <a:ext cx="435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© Copyright 2006.  M. J. Krech. All rights reserved.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Four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10080" y="12949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arth is composed of four different layers. The </a:t>
            </a:r>
            <a:r>
              <a:rPr b="1" lang="en-US" sz="2400" spc="-1" strike="noStrike">
                <a:solidFill>
                  <a:srgbClr val="0080ff"/>
                </a:solidFill>
                <a:latin typeface="Times New Roman"/>
              </a:rPr>
              <a:t>c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layer that you live on, and it is the most widely studied and understood. The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man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much hotter and has the ability to flow. The </a:t>
            </a:r>
            <a:r>
              <a:rPr b="1" lang="en-US" sz="2400" spc="-1" strike="noStrike">
                <a:solidFill>
                  <a:srgbClr val="ffc257"/>
                </a:solidFill>
                <a:latin typeface="Times New Roman"/>
              </a:rPr>
              <a:t>outer core and inner c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even hotter with pressures so great you would be squeezed into a ball smaller than a marble if you were able to go to the center of the Eart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0c_Picture2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380880" y="1752480"/>
            <a:ext cx="5181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86400" y="1980720"/>
            <a:ext cx="327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arth'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the skin of an apple. It is very thin in comparison to the other three layers. The crust is only about 3-5 miles (8 kilometers) thick under the ocean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ceanic c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about 25 miles (32 kilometers) thick under the continents (</a:t>
            </a:r>
            <a:r>
              <a:rPr b="1" lang="en-US" sz="2000" spc="-1" strike="noStrike">
                <a:solidFill>
                  <a:srgbClr val="803629"/>
                </a:solidFill>
                <a:latin typeface="Times New Roman"/>
              </a:rPr>
              <a:t>continental c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c_Picture4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457200" y="1752480"/>
            <a:ext cx="5029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hospher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Earth is broken into many pieces called </a:t>
            </a:r>
            <a:r>
              <a:rPr b="1" lang="en-US" sz="3200" spc="-1" strike="noStrike">
                <a:solidFill>
                  <a:srgbClr val="e41620"/>
                </a:solidFill>
                <a:latin typeface="Times New Roman"/>
              </a:rPr>
              <a:t>pl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plates "float" on the soft, semi-rigi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henosp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&#10;plates.jpg  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1523880" y="1143000"/>
            <a:ext cx="57913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19320" y="3808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The Asthen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_x0014_convectingmantle.gif                                           0000006A_x0005_KRECH                          00000000:"/>
          <p:cNvPicPr/>
          <p:nvPr/>
        </p:nvPicPr>
        <p:blipFill>
          <a:blip r:embed="rId1"/>
          <a:srcRect l="0" t="0" r="0" b="14700"/>
          <a:stretch/>
        </p:blipFill>
        <p:spPr>
          <a:xfrm>
            <a:off x="0" y="1219320"/>
            <a:ext cx="5257800" cy="3985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5410080" y="20574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</a:t>
            </a:r>
            <a:r>
              <a:rPr b="1" lang="en-US" sz="2400" spc="-1" strike="noStrike">
                <a:solidFill>
                  <a:srgbClr val="e41620"/>
                </a:solidFill>
                <a:latin typeface="Courier New"/>
              </a:rPr>
              <a:t>asthenosphe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s the semi-rigid part of the </a:t>
            </a:r>
            <a:r>
              <a:rPr b="1" lang="en-US" sz="2400" spc="-1" strike="noStrike">
                <a:solidFill>
                  <a:srgbClr val="e41620"/>
                </a:solidFill>
                <a:latin typeface="Courier New"/>
              </a:rPr>
              <a:t>middle mant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that flows like hot asphalt under a heav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ithosp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rust and the upper layer of the man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gether make up a zone of rigid, brittle rock called the </a:t>
            </a:r>
            <a:r>
              <a:rPr b="1" lang="en-US" sz="3200" spc="-1" strike="noStrike">
                <a:solidFill>
                  <a:srgbClr val="e41620"/>
                </a:solidFill>
                <a:latin typeface="Times New Roman"/>
              </a:rPr>
              <a:t>Lith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_x000c_Picture5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1828800" y="4038480"/>
            <a:ext cx="54864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cr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mposed of two rocks. The </a:t>
            </a:r>
            <a:r>
              <a:rPr b="1" lang="en-US" sz="2800" spc="-1" strike="noStrike">
                <a:solidFill>
                  <a:srgbClr val="803629"/>
                </a:solidFill>
                <a:latin typeface="Times New Roman"/>
              </a:rPr>
              <a:t>continental cr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mostly </a:t>
            </a:r>
            <a:r>
              <a:rPr b="1" lang="en-US" sz="2800" spc="-1" strike="noStrike">
                <a:solidFill>
                  <a:srgbClr val="803629"/>
                </a:solidFill>
                <a:latin typeface="Times New Roman"/>
              </a:rPr>
              <a:t>gran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ceanic cr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a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asalt is much denser than the granite. Because of this   the less dense continents ride on the   denser oceanic pl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_x000c_Picture5.gif                                                   0000006A_x0005_KRECH                          00000000:"/>
          <p:cNvPicPr/>
          <p:nvPr/>
        </p:nvPicPr>
        <p:blipFill>
          <a:blip r:embed="rId1"/>
          <a:srcRect l="0" t="21185" r="0" b="0"/>
          <a:stretch/>
        </p:blipFill>
        <p:spPr>
          <a:xfrm>
            <a:off x="228600" y="914400"/>
            <a:ext cx="8686800" cy="3181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493560" y="-1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e41620"/>
                </a:solidFill>
                <a:latin typeface="Times New Roman"/>
              </a:rPr>
              <a:t>Man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argest layer of the Earth. The </a:t>
            </a:r>
            <a:r>
              <a:rPr b="1" lang="en-US" sz="3200" spc="-1" strike="noStrike">
                <a:solidFill>
                  <a:srgbClr val="e41620"/>
                </a:solidFill>
                <a:latin typeface="Times New Roman"/>
              </a:rPr>
              <a:t>middle man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mposed of very hot dense rock that flows like asphalt under a heavy weight. The movement of the middle mantle (</a:t>
            </a: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asthenosp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reason that the crustal plates of the Earth m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_x000c_Picture6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304920" y="1600200"/>
            <a:ext cx="4097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19720" y="18288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ddle mantle "flows" because of convection currents.  </a:t>
            </a: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Convection curr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aused by the very hot material at the deepest part of the mantle rising, then cooling and sinking again --repeating this cycle over and o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0c_Picture7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228600" y="1828800"/>
            <a:ext cx="43434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01:03:27Z</dcterms:created>
  <dc:creator>Eric Knapp</dc:creator>
  <dc:description/>
  <dc:language>en-US</dc:language>
  <cp:lastModifiedBy>Gina</cp:lastModifiedBy>
  <dcterms:modified xsi:type="dcterms:W3CDTF">2010-11-07T21:27:03Z</dcterms:modified>
  <cp:revision>61</cp:revision>
  <dc:subject/>
  <dc:title>PowerPoint Presentation</dc:title>
</cp:coreProperties>
</file>